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F825-E61F-4DB0-9534-5D0B5E8E58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202B-66D6-4A3B-804B-A25808E69F3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1F5F-F704-4F5D-8135-199455C94C7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6BFE-88BB-4D3F-9CFA-A574B0281A1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36CA-3353-42BC-BEC0-F7148AFC4A7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A4F9-D17F-4463-BD7F-2257A46F00D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4036F-4BF9-46A3-B762-9AFAFC4B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AA2ED-2866-4EEF-8454-ADC23347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48B39-4F4C-451E-B80A-BA860F0C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93917-6C92-4CFB-99FC-938FD0FF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A6CCD-A997-4692-A89C-7972636C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9B560-D341-4A72-9D6F-6AB7770E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BA33F-6500-424C-8839-B353CE20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DF735-C6A5-4AC8-B15E-F21BBE1F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2F416-BBD0-4B4A-B5EA-6A0C7664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E0038-B0FF-4279-A154-6B87F8ED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22C79-05CD-4F72-82F2-B702CFB7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8F307-4BDC-4497-A848-DD304EC7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5A5C8-E150-40DA-80D3-391AB668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735665-2DF2-401F-A25D-EAEA98A8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64E87-BA72-4648-BD66-22485E5E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97AAC-2DFF-47E3-86BA-365D3C6A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E47A7-0A59-420B-8035-32FCA746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74165-32AF-4D5A-BB4E-4CAAEC08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F7C32-4367-4166-90FA-466C669E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A5997-EE83-45B1-8BAB-EC30C92C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8363B-0975-4E05-8499-0B624B63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80D25D-424C-4D3B-B4EA-25E90082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ED1E1-1B2D-4A0D-B17F-8D361A5E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040BF6-D041-4F0D-981C-E550F509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462B-282B-42EA-BD18-01EA3CF4CD8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CA2D-A918-45B3-9456-9FCD82734AF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E60A-F3FB-45BB-8A39-F2A3B14CE4B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56DD-6DD1-46D2-B458-5E587AA67B9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ADFE-0104-4E57-98E6-2F6862DFB96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F8C6-3599-402E-A77B-384D0BD5F1E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09D9-1E2D-46A2-AB2A-14F4251A221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42FE-5B26-4B0F-864F-B6A70AC7BF1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EFBC-3044-45C7-9D20-295901921F8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5A1D-DE8F-483A-ABAE-3BC0AC0CCCC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8200"/>
            <a:chOff x="214200" y="189000"/>
            <a:chExt cx="8929800" cy="305820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8200"/>
              <a:chOff x="285480" y="189000"/>
              <a:chExt cx="8858520" cy="305820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864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520"/>
            <a:chOff x="285840" y="119160"/>
            <a:chExt cx="8715240" cy="616752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‘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의 선택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관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68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1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5400720" cy="64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480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재인 정부의 저출산고령사회 기본계획 수정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9. 2.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함께 만들어가는 행복한 노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79-38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층적 노후소득 보장체계 내실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중년 새로운 인생출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의 다양한 사회참여 기회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중심의 건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 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한 노년기를 위한 기반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43960" cy="4500720"/>
              <a:chOff x="285840" y="71280"/>
              <a:chExt cx="864396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616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57268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편안하고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의 욕구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인 생리적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000"/>
              <a:ext cx="8606160" cy="3710520"/>
              <a:chOff x="323640" y="2565000"/>
              <a:chExt cx="8606160" cy="371052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696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례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00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의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128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7480"/>
              <a:chOff x="357120" y="285840"/>
              <a:chExt cx="8501040" cy="593748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376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,21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1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 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4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예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0.8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은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320"/>
            <a:chOff x="0" y="0"/>
            <a:chExt cx="9358200" cy="641232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440"/>
              <a:chOff x="285480" y="785520"/>
              <a:chExt cx="8572680" cy="290844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632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仁政 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을 대상으로 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待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耆老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民院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老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致仕制度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40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400"/>
              <a:ext cx="8572680" cy="2554920"/>
              <a:chOff x="285480" y="385740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40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04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6:34:53Z</dcterms:modified>
  <cp:revision>30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